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B31-F0E1-43C1-8F76-DA07AF96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5CB-8962-42F9-BB4F-DF375CD5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A02-A8F4-4F09-A363-D0EECB68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D88-8C33-4C9A-94E3-F391354D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722-4CBE-4C8C-8232-2EB2BD75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A3D-1996-45EE-AAC3-E402A096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668-F783-4A23-8931-05A2EF93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F20-E40A-42C7-80E4-BABC7BD7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919-B3B7-40CE-BE05-075347DF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7B6-EB2B-4345-A999-5C306BCC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2DE-97E9-4372-9F6F-1CC7E916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230-5E2F-4D97-839E-7BE58E4B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DA3C-2DBD-4694-A171-3C6715152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7010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733920" cy="10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قامت مريم بنتُ داود حِذاء العـ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تندبُ إبنَها المصلوب بأيـدي    الجن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رمـحُ الحُزنِ غائــص فـي  نفسهــ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ومن ألمِـهِ غابـَتْ عـن  حسّها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ثم فاقت الوالدة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وصاحـت آه يـا ولـد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3886200" cy="10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حبيبي حبيبـي يـا ولـداه خاطِبْن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كيــف أراك عُريـان ولا أندُبـك يا  إب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أوجاعك حَرَقَت أكب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آلامـك خرَقـت  فــؤ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كيـف تحيــــا والدتــ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يا ولــداه بعـــدَ  موتــك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457200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يـا عـزّ أمك وثمـرتَها الفريـ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يـا وحيـدْ أبيك وصورتَــه المجيـ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إفتراقـَـكْ كسكيـن جرحَتْنِ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وعذابـك كحربــة طعنَتْنـِ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إسمــح لـــي أمُــتْ قبل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</a:rPr>
              <a:t>ولا أنـظـــر أحـوالَــــ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98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أمَّ يســوع بنــتَ 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الآبِ الأكـ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عـروس الـروحِ القـّدوس الأعظـ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أشرِكيـنا بـآلام فادينا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زَّينـيـنا بنعـمة باري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Simplified Arabic"/>
              </a:rPr>
              <a:t>لِنخدُمكِ على الدو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مدى الساعـات والأيـام</a:t>
            </a:r>
            <a:r>
              <a:rPr b="0" lang="ar-SA" sz="2400" spc="-1" strike="noStrike">
                <a:solidFill>
                  <a:srgbClr val="cc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54:23Z</dcterms:created>
  <dc:creator>SUZANNE.MD</dc:creator>
  <dc:description/>
  <dc:language>en-US</dc:language>
  <cp:lastModifiedBy>HANI SAFI</cp:lastModifiedBy>
  <dcterms:modified xsi:type="dcterms:W3CDTF">2003-03-14T12:14:02Z</dcterms:modified>
  <cp:revision>3</cp:revision>
  <dc:subject/>
  <dc:title>PowerPoint Presentation</dc:title>
</cp:coreProperties>
</file>